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левтина Шаривзянова" initials="АШ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1-10-24T08:48:59.058000000" idx="1">
    <p:pos x="10" y="10"/>
    <p:text/>
  </p:cm>
  <p:cm authorId="0" dt="2021-10-24T08:49:45.666000000" idx="2">
    <p:pos x="146" y="146"/>
    <p:text/>
  </p:cm>
  <p:cm authorId="0" dt="2021-10-24T08:59:51.768000000" idx="3">
    <p:pos x="282" y="282"/>
    <p:text/>
  </p:cm>
</p:cmLst>
</file>

<file path=ppt/comments/comment17.xml><?xml version="1.0" encoding="utf-8"?>
<p:cmLst xmlns:p="http://schemas.openxmlformats.org/presentationml/2006/main">
  <p:cm authorId="0" dt="2021-10-24T11:33:17.577000000" idx="4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9F2-FBEF-4F31-8D83-30EBD66E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BCC-629D-4495-A8A6-87066F0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E3C-461C-4571-86FC-B30B6556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6D8-D3C8-46C4-AF3D-40FCBEEF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2E6-6B68-425C-A68D-5B455407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93F-F18E-4A14-B34C-62E2816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84D-4C36-4CB6-8820-A7D28A3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8B8-608D-4F95-9DAC-8552BA59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717-2BF8-4735-8C1B-9C314AB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325-2234-4187-B528-0942FA6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CF8-E3F5-4E04-8EA9-8A2D40B5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91D-9445-448E-B73B-540E60F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EDD-B761-454F-A7CD-1A270DC6E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Табличка 7"/>
          <p:cNvSpPr/>
          <p:nvPr/>
        </p:nvSpPr>
        <p:spPr>
          <a:xfrm>
            <a:off x="179280" y="189000"/>
            <a:ext cx="8713800" cy="6480000"/>
          </a:xfrm>
          <a:custGeom>
            <a:avLst/>
            <a:gdLst>
              <a:gd name="textAreaLeft" fmla="*/ 763560 w 8713800"/>
              <a:gd name="textAreaRight" fmla="*/ 7950240 w 8713800"/>
              <a:gd name="textAreaTop" fmla="*/ 763560 h 6480000"/>
              <a:gd name="textAreaBottom" fmla="*/ 5716440 h 6480000"/>
            </a:gdLst>
            <a:ahLst/>
            <a:rect l="textAreaLeft" t="textAreaTop" r="textAreaRight" b="textAreaBottom"/>
            <a:pathLst>
              <a:path w="290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446" y="21600"/>
                </a:lnTo>
                <a:arcTo wR="3600" hR="3600" stAng="10800000" swAng="5400000"/>
                <a:lnTo>
                  <a:pt x="2904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8" descr="clip_image001.jpg"/>
          <p:cNvPicPr/>
          <p:nvPr/>
        </p:nvPicPr>
        <p:blipFill>
          <a:blip r:embed="rId2"/>
          <a:stretch/>
        </p:blipFill>
        <p:spPr>
          <a:xfrm>
            <a:off x="108000" y="5157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x_68f70433.jpg"/>
          <p:cNvPicPr/>
          <p:nvPr/>
        </p:nvPicPr>
        <p:blipFill>
          <a:blip r:embed="rId3"/>
          <a:stretch/>
        </p:blipFill>
        <p:spPr>
          <a:xfrm>
            <a:off x="7451640" y="5292720"/>
            <a:ext cx="1505160" cy="14605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7596360" y="115920"/>
            <a:ext cx="1636560" cy="15843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73160" y="-18720"/>
            <a:ext cx="1365120" cy="185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arhlib.ru/2019/07/my-s-druzyami-ne-skuchaem-a-igraem-i-chitaem/" TargetMode="External"/><Relationship Id="rId3" Type="http://schemas.openxmlformats.org/officeDocument/2006/relationships/hyperlink" Target="https://creativecommons.org/licenses/by-sa/3.0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arhlib.ru/2018/12/vesyolyie-nashi-druzya/" TargetMode="External"/><Relationship Id="rId3" Type="http://schemas.openxmlformats.org/officeDocument/2006/relationships/hyperlink" Target="https://creativecommons.org/licenses/by-sa/3.0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son-net.info/v-nekrasovskom-rajone-volontery-impuls-proveli-master-klass-myagkij-drug/" TargetMode="External"/><Relationship Id="rId3" Type="http://schemas.openxmlformats.org/officeDocument/2006/relationships/hyperlink" Target="https://creativecommons.org/licenses/by-nc-nd/3.0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о что нравится тебе в других, нравится и другим в тебе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 Честерфил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0800000">
            <a:off x="899280" y="259920"/>
            <a:ext cx="7488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403280" y="498600"/>
            <a:ext cx="631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тношения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Arial"/>
              </a:rPr>
              <a:t>товари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сновываются  на общей цели, средствах и результатах общ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2203560" y="2948040"/>
            <a:ext cx="4744800" cy="3360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195640" y="5715000"/>
            <a:ext cx="375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Это изображение, автор: Неизвестный автор, лицензия: CC BY-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Дружеские отноше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ываются на высоком уровне доверия, искренности и бескорыстности, переживанием друг за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2" descr=""/>
          <p:cNvPicPr/>
          <p:nvPr/>
        </p:nvPicPr>
        <p:blipFill>
          <a:blip r:embed="rId1"/>
          <a:stretch/>
        </p:blipFill>
        <p:spPr>
          <a:xfrm>
            <a:off x="1962000" y="3351240"/>
            <a:ext cx="5220000" cy="3166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3"/>
          <p:cNvSpPr/>
          <p:nvPr/>
        </p:nvSpPr>
        <p:spPr>
          <a:xfrm>
            <a:off x="149400" y="6292800"/>
            <a:ext cx="694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Это изображение, автор: Неизвестный автор, лицензия: CC BY-SA-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48384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ружба – самый высокий уровень межличностных отнош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908000" y="3059280"/>
            <a:ext cx="532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м должен быть настоящий дру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43120" y="3371760"/>
            <a:ext cx="41338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завоевать друз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755640" y="692280"/>
            <a:ext cx="7704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вило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Искренне интересуйтесь други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вило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Улыбайт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вило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мните, что имя человека – это самый сладостный звук на люб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вило 4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дьте хорошим слушателем. Поощряйте других говорить 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вило 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ворите о том, что интересует вашего собесед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авило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Внушайте вашему собеседнику сознание его значительности и делайте это искренне.                       (Д. Карне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0714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жет ли человек обойтись без межличностных отношений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ведите аргументы «за» и «проти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1511280" y="1197000"/>
            <a:ext cx="61214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1776240" y="1220760"/>
            <a:ext cx="4956480" cy="5065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776240" y="6286680"/>
            <a:ext cx="559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Это изображение, автор: Неизвестный автор, лицензия: CC BY-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857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шения с окружающи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ирование представления учащихся об условиях возникновения отношений с окружающими людь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люди вступают во взаимодействие с окружающи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ли человек обойтись без межличностных отноше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8" descr=""/>
          <p:cNvPicPr/>
          <p:nvPr/>
        </p:nvPicPr>
        <p:blipFill>
          <a:blip r:embed="rId1"/>
          <a:stretch/>
        </p:blipFill>
        <p:spPr>
          <a:xfrm>
            <a:off x="4651200" y="1987560"/>
            <a:ext cx="4035600" cy="322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4648320" y="5208480"/>
            <a:ext cx="40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Это изображени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автор: Неизвестный автор, лицензия: </a:t>
            </a: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отношения можно назвать межличностны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отношения – это особенная связь человека с окружающими людь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03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межличносных отношений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 Знакомств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2. Приятельств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3. Товариществ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Дружб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92600" y="4255920"/>
            <a:ext cx="33573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Знакомств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самый распространенный вид межличностных отнош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0" descr=""/>
          <p:cNvPicPr/>
          <p:nvPr/>
        </p:nvPicPr>
        <p:blipFill>
          <a:blip r:embed="rId1"/>
          <a:stretch/>
        </p:blipFill>
        <p:spPr>
          <a:xfrm>
            <a:off x="1905120" y="2641680"/>
            <a:ext cx="5371920" cy="3595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1886040" y="5226120"/>
            <a:ext cx="537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Это изображени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автор: Неизвестный автор, лицензия: </a:t>
            </a: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1800" y="692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ятельские отношен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никают из круга знакомых при условии привлекательности одного человека для другого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5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50198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95200" y="7043760"/>
            <a:ext cx="478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Это изображени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автор: Неизвестный автор, лицензия: </a:t>
            </a: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CC BY-NC-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25:35Z</dcterms:created>
  <dc:creator>Пользователь</dc:creator>
  <dc:description/>
  <dc:language>en-US</dc:language>
  <cp:lastModifiedBy>Алевтина Шаривзянова</cp:lastModifiedBy>
  <dcterms:modified xsi:type="dcterms:W3CDTF">2021-10-27T15:42:40Z</dcterms:modified>
  <cp:revision>76</cp:revision>
  <dc:subject/>
  <dc:title>Возьмите желтые карточки. Нарисуйте на них улыбку. Обменяйтесь. Пусть доброжелательность и взаимность сопровождают  Вас весь урок.</dc:title>
</cp:coreProperties>
</file>